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B8A-6899-4F36-8BAD-E4C0BD0E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F12-AE97-48A6-BD97-1A00D083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A4F-3599-4301-BB36-BB0F5EE1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2EF-98C0-47B1-8C05-EAB93654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D57-9C25-47BE-BACE-3C9675D8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090-7921-4399-9308-0D5D5587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7DC-A2DB-4C54-AC89-5B150F76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EA2-5959-48F9-BA36-D5AC7FAC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5FB-8172-4422-8150-B8F198EF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AB5-CF65-432E-B169-8A9A506A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A89-CE3D-4D75-AF34-10830F29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93D-33AC-4C86-9C2A-B82EF8B4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6B1E-DD28-4599-BD4E-9C5522491C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040" y="339840"/>
            <a:ext cx="665172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Finančni instrumenti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Zakonodaj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oljeZBesedilom 3"/>
          <p:cNvSpPr/>
          <p:nvPr/>
        </p:nvSpPr>
        <p:spPr>
          <a:xfrm>
            <a:off x="950760" y="1554120"/>
            <a:ext cx="7391520" cy="3385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ložbe v kapital ali navidezni lastniški kapital, posojila, jamstva ali drugi instrumenti delitve tveganj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odbujati mora znatno udeležbo zasebnih vlagateljev in finančnih institucij na podlagi ustrezne delitve tveganja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mogočati morajo kritje celote naložb brez razlikovanja stroškov, povezanih z DDV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praviti administrativna bremena za končne prejemn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redhodna oce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oljeZBesedilom 3"/>
          <p:cNvSpPr/>
          <p:nvPr/>
        </p:nvSpPr>
        <p:spPr>
          <a:xfrm>
            <a:off x="950760" y="1563840"/>
            <a:ext cx="7391520" cy="3385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porabljajo se v primeru posebnih tržnih potreb in ne smejo ovirati zasebnega financiranj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ločitev o financiranju podpornih ukrepov s finančnimi instrumenti je zato treba sprejeti na podlagi predhodne ocene, s katero so bili ugotovljeni nedelovanje trga ali neoptimalne naložbene razmere, ter ocenjeni ravni in obsegu potreb po javnih naložbah, ki pa hkrati določa vrste podprtih finančnih instrumento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odroč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oljeZBesedilom 3"/>
          <p:cNvSpPr/>
          <p:nvPr/>
        </p:nvSpPr>
        <p:spPr>
          <a:xfrm>
            <a:off x="950760" y="1563840"/>
            <a:ext cx="7391520" cy="41173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raziskav, tehnološkega razvoja in inovacij (TC 1 in 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ovečanje konkurenčnosti MSP, kmetijskega sektorja (za EKSRP) ter sektorja ribištva in akvakulture (za ESPR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TC 1, 3, 8, 9)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dpora prehodu na gospodarstvo z nizkimi emisijami ogljika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(TC 3 in 4)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nčni instrumenti za urbani in teritorialni razvoj: 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TC 4, 6,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Metodologi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oljeZBesedilom 3"/>
          <p:cNvSpPr/>
          <p:nvPr/>
        </p:nvSpPr>
        <p:spPr>
          <a:xfrm>
            <a:off x="950760" y="1563840"/>
            <a:ext cx="7391520" cy="48488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nudba:  pregled finančnega sektorja z namenom določitve okvira razpoložljivih finančnih sredstva brez razpoložljivih shem javne intervencij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vpraševanje: MSP spletni vprašalnik, RRI podatki o predhodni aktivnosti na tem področju in intervjuji z velikimi podjetji, Urbani razvoj in energetska sanacija (JESSICA in podatki občin – mehanizem CTN). Javni sektor podatki iz strategije o Energetski prenovi stav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 podlagi analize ponudbe in povpraševanja je izdelana ocena nedelovanja trga, skupaj z navedbo neoptimalnih naložbenih razm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oljeZBesedilom 2"/>
          <p:cNvSpPr/>
          <p:nvPr/>
        </p:nvSpPr>
        <p:spPr>
          <a:xfrm>
            <a:off x="833400" y="63972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redlog finančnih produkt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1"/>
          <a:stretch/>
        </p:blipFill>
        <p:spPr>
          <a:xfrm>
            <a:off x="282600" y="1606680"/>
            <a:ext cx="872172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oljeZBesedilom 2"/>
          <p:cNvSpPr/>
          <p:nvPr/>
        </p:nvSpPr>
        <p:spPr>
          <a:xfrm>
            <a:off x="833400" y="682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Nadaljnji korak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oljeZBesedilom 3"/>
          <p:cNvSpPr/>
          <p:nvPr/>
        </p:nvSpPr>
        <p:spPr>
          <a:xfrm>
            <a:off x="950760" y="1563840"/>
            <a:ext cx="7391520" cy="26542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EK še ni izdala vseh navodil, trenutno so v pripravi navodila za izbiro finančnih posredniko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ločitev o modelu upravljanja in izbira finančnih posredniko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dpis sporazuma o financiranju in izvajanje finančnih instrumentov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cp:lastPrinted>2015-03-24T12:44:18Z</cp:lastPrinted>
  <dcterms:modified xsi:type="dcterms:W3CDTF">2015-11-11T08:03:45Z</dcterms:modified>
  <cp:revision>39</cp:revision>
  <dc:subject/>
  <dc:title>PowerPoint Presentation</dc:title>
</cp:coreProperties>
</file>